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9E4-47ED-40C0-B6E2-A7A941FA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6FD-E017-40EC-AD7D-1A2E5E82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E5B-8805-4705-A530-CD3A95F1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D07-6F24-4A92-908E-96A462BE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9CD-877A-4CAA-A713-EFB17C72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0A8-561C-4E1B-BCCE-63863242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9CA-9117-45A9-9BD8-EDF70740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EE4-B785-481B-ACF2-335F51E4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ABA-51A4-4A1A-A992-08958E7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9CF-7890-4328-AE67-D8EB8C0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4C7-9A66-4A54-BD61-34FF78CA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537-073B-4DC4-A0FE-FA0A32A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CD6F1-3374-4A30-9F0B-7B2A05CD28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5 PARAGRAPH ESSA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graph at a time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clusion Paragra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35160" y="2593800"/>
            <a:ext cx="616104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Restate the thesis statemen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Synthesize research to ask questions like…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this topic important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it affect the rest of the worl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d this change your attitude of the topic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onclusion Phrase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conclusion, To summarize…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Box 3" descr=""/>
          <p:cNvPicPr/>
          <p:nvPr/>
        </p:nvPicPr>
        <p:blipFill>
          <a:blip r:embed="rId1"/>
          <a:stretch/>
        </p:blipFill>
        <p:spPr>
          <a:xfrm>
            <a:off x="2243160" y="4956120"/>
            <a:ext cx="4481640" cy="878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457200" y="180180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purpose of the Conclusion Paragraph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ight Side Up Triangle Mod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906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stated Thes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 Conclusion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Isosceles Triangle 4"/>
          <p:cNvSpPr/>
          <p:nvPr/>
        </p:nvSpPr>
        <p:spPr>
          <a:xfrm>
            <a:off x="2728800" y="2781360"/>
            <a:ext cx="3768840" cy="312588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40480" y="1422360"/>
            <a:ext cx="82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Idea: Go from a restatement of your thesis to a broader comment about the top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 Paragraph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Content Placeholder 3" descr="Close_up_of_mako_shark_head_005.jpg"/>
          <p:cNvPicPr/>
          <p:nvPr/>
        </p:nvPicPr>
        <p:blipFill>
          <a:blip r:embed="rId1"/>
          <a:stretch/>
        </p:blipFill>
        <p:spPr>
          <a:xfrm>
            <a:off x="3351240" y="1417680"/>
            <a:ext cx="2309760" cy="1733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450720" y="3733920"/>
            <a:ext cx="823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Restatement of Thesis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f sharks are not as dangerous as they appear in the movies then why do we continue to fear them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Broader Ideas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reality is, the media wants to depict sharks in a negative light because it gets rating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Final Big Idea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 love things that scare us, but it is up to us as individuals to properly research the things in this world that we are told to watch out fo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358720" y="3209760"/>
            <a:ext cx="43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Close_up_of_mako_shark_head_005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1080"/>
            <a:ext cx="642636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ow do we set up a 5 paragraph essa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rcRect l="-14843" t="0" r="-14843" b="0"/>
          <a:stretch/>
        </p:blipFill>
        <p:spPr>
          <a:xfrm>
            <a:off x="5905440" y="271440"/>
            <a:ext cx="2932200" cy="1612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47760" y="2409840"/>
            <a:ext cx="8489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ntroduction Paragraph:  The              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Isosceles Triangle 9"/>
          <p:cNvSpPr/>
          <p:nvPr/>
        </p:nvSpPr>
        <p:spPr>
          <a:xfrm rot="3618000">
            <a:off x="5752800" y="2169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Isosceles Triangle 10"/>
          <p:cNvSpPr/>
          <p:nvPr/>
        </p:nvSpPr>
        <p:spPr>
          <a:xfrm>
            <a:off x="5234040" y="52642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72240" y="3713040"/>
            <a:ext cx="655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Body Paragraph: The</a:t>
            </a:r>
            <a:r>
              <a:rPr b="0" lang="en-US" sz="2800" spc="-1" strike="noStrike">
                <a:solidFill>
                  <a:srgbClr val="a6d4a7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a6d4a7"/>
                </a:solidFill>
                <a:latin typeface="Marker Felt"/>
                <a:ea typeface="Marker Felt"/>
              </a:rPr>
              <a:t>1-3-3</a:t>
            </a:r>
            <a:r>
              <a:rPr b="0" lang="en-US" sz="1800" spc="-1" strike="noStrike">
                <a:solidFill>
                  <a:srgbClr val="a6d4a7"/>
                </a:solidFill>
                <a:latin typeface="Marker Felt"/>
                <a:ea typeface="Marker Fel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509760" y="5492880"/>
            <a:ext cx="81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Conclusion Paragraph: The             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roduction Paragra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purpose of an introductory paragraph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152360" y="2290680"/>
            <a:ext cx="82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ok the audien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roduce the topic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late the topic to something person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why the topic is import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603800" y="386064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T MOST IMPORTANTLY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TextBox 7" descr=""/>
          <p:cNvPicPr/>
          <p:nvPr/>
        </p:nvPicPr>
        <p:blipFill>
          <a:blip r:embed="rId1"/>
          <a:stretch/>
        </p:blipFill>
        <p:spPr>
          <a:xfrm>
            <a:off x="360360" y="4846680"/>
            <a:ext cx="83869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Upside Down Triangle Mod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906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road Stateme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Isosceles Triangle 4"/>
          <p:cNvSpPr/>
          <p:nvPr/>
        </p:nvSpPr>
        <p:spPr>
          <a:xfrm rot="3543600">
            <a:off x="3244320" y="1944720"/>
            <a:ext cx="3768840" cy="312732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03760" y="1422360"/>
            <a:ext cx="87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Idea: Go from a general idea or comment and narrow it down to your thesis stat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 the following example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 TOPIC: Shark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Carcharodon_carcharias.jpg"/>
          <p:cNvPicPr/>
          <p:nvPr/>
        </p:nvPicPr>
        <p:blipFill>
          <a:blip r:embed="rId1"/>
          <a:stretch/>
        </p:blipFill>
        <p:spPr>
          <a:xfrm>
            <a:off x="1649520" y="1940040"/>
            <a:ext cx="6006960" cy="4505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781720" y="6445080"/>
            <a:ext cx="374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Carcharodon_carcharias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Paragraph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Broad Idea)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en I was young I loved sharks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Slightly Narrower)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 remember watching Discovery Channel’s “Shark Week” and thinking that sharks must attack people all the time.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Narrower)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t was ingrained in me that sharks were blood thirsty creatures that I had every reason to fear.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Specific Thesis Statement)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Yet, despite their bad reputation, sharks should not be considered a major threat to humans.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3" descr="Tigershark.JPG"/>
          <p:cNvPicPr/>
          <p:nvPr/>
        </p:nvPicPr>
        <p:blipFill>
          <a:blip r:embed="rId1"/>
          <a:stretch/>
        </p:blipFill>
        <p:spPr>
          <a:xfrm>
            <a:off x="3481560" y="1241280"/>
            <a:ext cx="2090520" cy="1382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948400" y="2625840"/>
            <a:ext cx="30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Tigershark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dy Paragraph: The</a:t>
            </a:r>
            <a:r>
              <a:rPr b="0" lang="en-US" sz="4000" spc="-1" strike="noStrike">
                <a:solidFill>
                  <a:srgbClr val="a6d4a7"/>
                </a:solidFill>
                <a:latin typeface="Calibri"/>
              </a:rPr>
              <a:t> </a:t>
            </a:r>
            <a:r>
              <a:rPr b="0" lang="en-US" sz="5900" spc="-1" strike="noStrike">
                <a:solidFill>
                  <a:srgbClr val="a6d4a7"/>
                </a:solidFill>
                <a:latin typeface="Marker Felt"/>
                <a:ea typeface="Marker Felt"/>
              </a:rPr>
              <a:t>1-3-3</a:t>
            </a:r>
            <a:r>
              <a:rPr b="0" lang="en-US" sz="4000" spc="-1" strike="noStrike">
                <a:solidFill>
                  <a:srgbClr val="a6d4a7"/>
                </a:solidFill>
                <a:latin typeface="Marker Felt"/>
                <a:ea typeface="Marker Fel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76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a6d4a7"/>
                </a:solidFill>
                <a:latin typeface="Marker Felt"/>
                <a:ea typeface="Marker Felt"/>
              </a:rPr>
              <a:t>1-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arker Felt"/>
              </a:rPr>
              <a:t>: This means 1 source or citation followed by three ideas or comment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According to…(source) then follow this up wit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Marker Felt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 com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Marker Felt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 com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Marker Felt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 comment (with transition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09760" y="5079960"/>
            <a:ext cx="803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this is a 5 paragraph essay you will do this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a6d4a7"/>
                </a:solidFill>
                <a:latin typeface="Marker Felt"/>
                <a:ea typeface="Marker Felt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mes so you will have </a:t>
            </a:r>
            <a:r>
              <a:rPr b="0" lang="en-US" sz="4800" spc="-1" strike="noStrike">
                <a:solidFill>
                  <a:srgbClr val="a6d4a7"/>
                </a:solidFill>
                <a:latin typeface="Marker Felt"/>
                <a:ea typeface="Marker Felt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ody para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dy Paragraph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Content Placeholder 3" descr="Shark_Silhouette.jpg"/>
          <p:cNvPicPr/>
          <p:nvPr/>
        </p:nvPicPr>
        <p:blipFill>
          <a:blip r:embed="rId1"/>
          <a:stretch/>
        </p:blipFill>
        <p:spPr>
          <a:xfrm>
            <a:off x="3448080" y="1246320"/>
            <a:ext cx="1888920" cy="141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57200" y="2854440"/>
            <a:ext cx="8229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Source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of all, according to the Florida Museum of National History, your odds of being attacked by a shark are 1 in 11.5 million and your odds of being killed by a shark are less than 1 in 264.1 million. (USLA, ISAF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ment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se numbers are incredibly low and should not make anyone afraid to go swimming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ment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media depicts sharks as incredibly violent and constantly attacking people, but this data obviously shows that this is not the case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ment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more accurate way to describe shark attacks would be that though they do happen, it rarely results in death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601720" y="2678040"/>
            <a:ext cx="33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Shark_Silhouette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dy Paragraph Trans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agraphs should flow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al Phrases” are used at the beginning of a  paragraph to introduce the next 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s/Exampl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quence = First of all, Secondly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ition = In addition, Also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rast = On the other hand, However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lustrate = For example, For instanc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57200" y="53514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6:05:52Z</dcterms:created>
  <dc:creator>Timothy Keene</dc:creator>
  <dc:description/>
  <dc:language>en-US</dc:language>
  <cp:lastModifiedBy>profile</cp:lastModifiedBy>
  <dcterms:modified xsi:type="dcterms:W3CDTF">2010-08-12T22:08:28Z</dcterms:modified>
  <cp:revision>11</cp:revision>
  <dc:subject/>
  <dc:title>THE 5 PARAGRAPH ESSAY</dc:title>
</cp:coreProperties>
</file>